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7391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3360" indent="-60336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3360" indent="-60336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6929280" y="6324480"/>
            <a:ext cx="206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903C-EC14-4041-A6F8-22ECB44ACA5E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219320"/>
            <a:ext cx="8839440" cy="27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885080" y="382680"/>
            <a:ext cx="1224000" cy="8143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086680" y="-27000"/>
            <a:ext cx="806400" cy="447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2868480" y="6248520"/>
            <a:ext cx="330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Revue de la Commission 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Présentation par 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 février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6324480"/>
            <a:ext cx="206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1 février 20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68480" y="6248520"/>
            <a:ext cx="330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Revue de la Commission 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Presentation par J.E Campag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32720" y="152280"/>
            <a:ext cx="2232000" cy="881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22400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89000"/>
            <a:ext cx="7583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Tracking dans les détecteurs électroniques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J.E.C + A.Cazes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292400"/>
            <a:ext cx="520848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rack reconstructed in 2D and in one detector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create all relevant cells (ie couple of hits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select relevant connections between cells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 recursive algorithm test all the possible segments and select one.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rack from all the detectors are connected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4900680"/>
            <a:ext cx="3810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ongest track in XZ and YZ merged in 3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Track fitted in 3D using Kalman fil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X,Y, 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/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, 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/P</a:t>
            </a:r>
            <a:r>
              <a:rPr b="0" lang="en-US" sz="1800" spc="-1" strike="noStrike" baseline="-25000">
                <a:solidFill>
                  <a:srgbClr val="003399"/>
                </a:solidFill>
                <a:latin typeface="Comic Sans MS"/>
              </a:rPr>
              <a:t>z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, q/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7680" y="3068640"/>
            <a:ext cx="4864320" cy="2952000"/>
            <a:chOff x="67680" y="3068640"/>
            <a:chExt cx="4864320" cy="295200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479160" y="3068640"/>
              <a:ext cx="2166840" cy="276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2761920" y="3068640"/>
              <a:ext cx="2170080" cy="276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36320" y="5744160"/>
              <a:ext cx="2209680" cy="276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position: RMS = 16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98640" y="5744160"/>
              <a:ext cx="2133360" cy="276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ahoma"/>
                </a:rPr>
                <a:t>angle: RMS = 47mr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800" y="341460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X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80" y="4930920"/>
              <a:ext cx="45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ahoma"/>
                </a:rPr>
                <a:t>Y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232240" y="2577960"/>
            <a:ext cx="3693960" cy="2229120"/>
            <a:chOff x="5232240" y="2577960"/>
            <a:chExt cx="3693960" cy="2229120"/>
          </a:xfrm>
        </p:grpSpPr>
        <p:pic>
          <p:nvPicPr>
            <p:cNvPr id="98" name="" descr=""/>
            <p:cNvPicPr/>
            <p:nvPr/>
          </p:nvPicPr>
          <p:blipFill>
            <a:blip r:embed="rId3"/>
            <a:stretch/>
          </p:blipFill>
          <p:spPr>
            <a:xfrm>
              <a:off x="5232240" y="2577960"/>
              <a:ext cx="3692520" cy="2229120"/>
            </a:xfrm>
            <a:prstGeom prst="rect">
              <a:avLst/>
            </a:prstGeom>
            <a:ln w="28440">
              <a:solidFill>
                <a:srgbClr val="9900cc"/>
              </a:solidFill>
              <a:miter/>
            </a:ln>
          </p:spPr>
        </p:pic>
        <p:sp>
          <p:nvSpPr>
            <p:cNvPr id="99" name=""/>
            <p:cNvSpPr/>
            <p:nvPr/>
          </p:nvSpPr>
          <p:spPr>
            <a:xfrm>
              <a:off x="7143840" y="2696400"/>
              <a:ext cx="178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fr-FR" sz="2400" spc="-1" strike="noStrike">
                  <a:solidFill>
                    <a:srgbClr val="000000"/>
                  </a:solidFill>
                  <a:latin typeface="Tahoma"/>
                </a:rPr>
                <a:t>CC ev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0560" y="377244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Targ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51600" y="377244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Targ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23240" y="393660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Spectr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99960" y="392904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Spectr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172120" y="1778040"/>
            <a:ext cx="407880" cy="138240"/>
          </a:xfrm>
          <a:custGeom>
            <a:avLst/>
            <a:gdLst/>
            <a:ahLst/>
            <a:rect l="l" t="t" r="r" b="b"/>
            <a:pathLst>
              <a:path w="366" h="132">
                <a:moveTo>
                  <a:pt x="36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1630440"/>
            <a:ext cx="366840" cy="163440"/>
          </a:xfrm>
          <a:custGeom>
            <a:avLst/>
            <a:gdLst/>
            <a:ahLst/>
            <a:rect l="l" t="t" r="r" b="b"/>
            <a:pathLst>
              <a:path w="354" h="126">
                <a:moveTo>
                  <a:pt x="354" y="126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168880" y="1298520"/>
            <a:ext cx="3733920" cy="1106280"/>
            <a:chOff x="5168880" y="1298520"/>
            <a:chExt cx="3733920" cy="1106280"/>
          </a:xfrm>
        </p:grpSpPr>
        <p:grpSp>
          <p:nvGrpSpPr>
            <p:cNvPr id="107" name=""/>
            <p:cNvGrpSpPr/>
            <p:nvPr/>
          </p:nvGrpSpPr>
          <p:grpSpPr>
            <a:xfrm>
              <a:off x="5219640" y="1513800"/>
              <a:ext cx="3647880" cy="633960"/>
              <a:chOff x="5219640" y="1513800"/>
              <a:chExt cx="3647880" cy="633960"/>
            </a:xfrm>
          </p:grpSpPr>
          <p:sp>
            <p:nvSpPr>
              <p:cNvPr id="108" name=""/>
              <p:cNvSpPr/>
              <p:nvPr/>
            </p:nvSpPr>
            <p:spPr>
              <a:xfrm>
                <a:off x="5594400" y="2004480"/>
                <a:ext cx="393840" cy="134280"/>
              </a:xfrm>
              <a:custGeom>
                <a:avLst/>
                <a:gdLst/>
                <a:ahLst/>
                <a:rect l="l" t="t" r="r" b="b"/>
                <a:pathLst>
                  <a:path w="379" h="134">
                    <a:moveTo>
                      <a:pt x="0" y="0"/>
                    </a:moveTo>
                    <a:lnTo>
                      <a:pt x="379" y="13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991480" y="2012040"/>
                <a:ext cx="379080" cy="135720"/>
              </a:xfrm>
              <a:custGeom>
                <a:avLst/>
                <a:gdLst/>
                <a:ahLst/>
                <a:rect l="l" t="t" r="r" b="b"/>
                <a:pathLst>
                  <a:path w="360" h="126">
                    <a:moveTo>
                      <a:pt x="0" y="126"/>
                    </a:moveTo>
                    <a:lnTo>
                      <a:pt x="3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78520" y="1865160"/>
                <a:ext cx="411120" cy="150120"/>
              </a:xfrm>
              <a:custGeom>
                <a:avLst/>
                <a:gdLst/>
                <a:ahLst/>
                <a:rect l="l" t="t" r="r" b="b"/>
                <a:pathLst>
                  <a:path w="396" h="150">
                    <a:moveTo>
                      <a:pt x="0" y="0"/>
                    </a:moveTo>
                    <a:lnTo>
                      <a:pt x="396" y="1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86480" y="1877400"/>
                <a:ext cx="379440" cy="126000"/>
              </a:xfrm>
              <a:custGeom>
                <a:avLst/>
                <a:gdLst/>
                <a:ahLst/>
                <a:rect l="l" t="t" r="r" b="b"/>
                <a:pathLst>
                  <a:path w="366" h="126">
                    <a:moveTo>
                      <a:pt x="0" y="126"/>
                    </a:moveTo>
                    <a:lnTo>
                      <a:pt x="36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05560" y="1765800"/>
                <a:ext cx="37296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19640" y="1924920"/>
                <a:ext cx="385920" cy="78120"/>
              </a:xfrm>
              <a:custGeom>
                <a:avLst/>
                <a:gdLst/>
                <a:ahLst/>
                <a:rect l="l" t="t" r="r" b="b"/>
                <a:pathLst>
                  <a:path w="372" h="78">
                    <a:moveTo>
                      <a:pt x="372" y="78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364440" y="1877400"/>
                <a:ext cx="795240" cy="14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159680" y="1612800"/>
                <a:ext cx="828720" cy="26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7975800" y="1513800"/>
                <a:ext cx="891720" cy="104040"/>
                <a:chOff x="7975800" y="1513800"/>
                <a:chExt cx="891720" cy="1040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8434080" y="1513800"/>
                  <a:ext cx="433440" cy="7920"/>
                </a:xfrm>
                <a:custGeom>
                  <a:avLst/>
                  <a:gdLst/>
                  <a:ahLst/>
                  <a:rect l="l" t="t" r="r" b="b"/>
                  <a:pathLst>
                    <a:path w="418" h="8">
                      <a:moveTo>
                        <a:pt x="0" y="0"/>
                      </a:moveTo>
                      <a:lnTo>
                        <a:pt x="418" y="8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-37800" bIns="-37800" anchor="t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975800" y="1521720"/>
                  <a:ext cx="458280" cy="96120"/>
                </a:xfrm>
                <a:custGeom>
                  <a:avLst/>
                  <a:gdLst/>
                  <a:ahLst/>
                  <a:rect l="l" t="t" r="r" b="b"/>
                  <a:pathLst>
                    <a:path w="442" h="96">
                      <a:moveTo>
                        <a:pt x="0" y="96"/>
                      </a:moveTo>
                      <a:lnTo>
                        <a:pt x="442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" name=""/>
            <p:cNvGrpSpPr/>
            <p:nvPr/>
          </p:nvGrpSpPr>
          <p:grpSpPr>
            <a:xfrm>
              <a:off x="5168880" y="1298520"/>
              <a:ext cx="3733920" cy="1106280"/>
              <a:chOff x="5168880" y="1298520"/>
              <a:chExt cx="3733920" cy="1106280"/>
            </a:xfrm>
          </p:grpSpPr>
          <p:sp>
            <p:nvSpPr>
              <p:cNvPr id="120" name=""/>
              <p:cNvSpPr/>
              <p:nvPr/>
            </p:nvSpPr>
            <p:spPr>
              <a:xfrm>
                <a:off x="7159680" y="1827360"/>
                <a:ext cx="50760" cy="48600"/>
              </a:xfrm>
              <a:prstGeom prst="ellipse">
                <a:avLst/>
              </a:prstGeom>
              <a:solidFill>
                <a:srgbClr val="9900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5168880" y="1298520"/>
                <a:ext cx="3733920" cy="1106280"/>
                <a:chOff x="5168880" y="1298520"/>
                <a:chExt cx="3733920" cy="1106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7558200" y="1731600"/>
                  <a:ext cx="507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762960" y="1923840"/>
                  <a:ext cx="489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965920" y="182736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965920" y="211608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364440" y="197172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762960" y="1298520"/>
                  <a:ext cx="489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956720" y="1587240"/>
                  <a:ext cx="5076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567400" y="235728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567400" y="197172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567400" y="173160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168880" y="187596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168880" y="1587240"/>
                  <a:ext cx="49320" cy="4752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404200" y="1490400"/>
                  <a:ext cx="5076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853480" y="1490400"/>
                  <a:ext cx="49320" cy="48600"/>
                </a:xfrm>
                <a:prstGeom prst="ellipse">
                  <a:avLst/>
                </a:prstGeom>
                <a:solidFill>
                  <a:srgbClr val="9900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4616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Identification des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J.E.C + A.Cazes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0" y="1142640"/>
            <a:ext cx="4857840" cy="16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uon est identifié à condition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range &gt; 24 murs (7</a:t>
            </a:r>
            <a:r>
              <a:rPr b="1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) OU critères d’isola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adéquation des informations obtenues dans les émulsion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47680" y="5213520"/>
            <a:ext cx="365112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Matching entre détecteurs électroniques et émulsion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Symbol"/>
                <a:ea typeface="Symbol"/>
              </a:rPr>
              <a:t></a:t>
            </a: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&lt; 200mr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Coïncidence des mo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96080" y="1073160"/>
            <a:ext cx="106704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N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3200" y="1073160"/>
            <a:ext cx="127944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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1073160"/>
            <a:ext cx="111312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1600" spc="-1" strike="noStrike" baseline="-25000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C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D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1778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96.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17780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93.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0120" y="177804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1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2158920"/>
            <a:ext cx="39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25020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143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5.1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2143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4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0120" y="21430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30.9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25779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82.4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25779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78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25779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9.7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3640" y="250200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177804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51200" y="1924200"/>
            <a:ext cx="48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76760" y="2317680"/>
            <a:ext cx="48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87720" y="4286160"/>
            <a:ext cx="45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OPERA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 years run @ </a:t>
            </a: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4.5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x10</a:t>
            </a:r>
            <a:r>
              <a:rPr b="0" lang="en-US" sz="1800" spc="-1" strike="noStrike" baseline="30000">
                <a:solidFill>
                  <a:srgbClr val="000099"/>
                </a:solidFill>
                <a:latin typeface="Tahoma"/>
              </a:rPr>
              <a:t>19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pot / yea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full mixing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= 2.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x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1320" y="4913280"/>
            <a:ext cx="370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Tahoma"/>
              </a:rPr>
              <a:t>10.5</a:t>
            </a:r>
            <a:r>
              <a:rPr b="1" lang="fr-FR" sz="2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1" lang="fr-FR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</a:t>
            </a: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 events</a:t>
            </a:r>
            <a:r>
              <a:rPr b="1" lang="fr-FR" sz="2400" spc="-1" strike="noStrike">
                <a:solidFill>
                  <a:srgbClr val="808080"/>
                </a:solidFill>
                <a:latin typeface="Tahoma"/>
              </a:rPr>
              <a:t> + </a:t>
            </a:r>
            <a:r>
              <a:rPr b="1" lang="fr-FR" sz="2400" spc="-1" strike="noStrike">
                <a:solidFill>
                  <a:srgbClr val="ff0000"/>
                </a:solidFill>
                <a:latin typeface="Tahoma"/>
              </a:rPr>
              <a:t>0.7</a:t>
            </a:r>
            <a:r>
              <a:rPr b="1" lang="fr-FR" sz="2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000099"/>
                </a:solidFill>
                <a:latin typeface="Tahoma"/>
              </a:rPr>
              <a:t>b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948560" y="5308560"/>
            <a:ext cx="3352320" cy="541800"/>
            <a:chOff x="4948560" y="5308560"/>
            <a:chExt cx="3352320" cy="541800"/>
          </a:xfrm>
        </p:grpSpPr>
        <p:sp>
          <p:nvSpPr>
            <p:cNvPr id="160" name=""/>
            <p:cNvSpPr/>
            <p:nvPr/>
          </p:nvSpPr>
          <p:spPr>
            <a:xfrm flipH="1">
              <a:off x="6132240" y="5308560"/>
              <a:ext cx="950760" cy="225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48560" y="5451480"/>
              <a:ext cx="335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Tahoma"/>
                </a:rPr>
                <a:t>0.38 </a:t>
              </a: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charme   0.32 </a:t>
              </a:r>
              <a:r>
                <a:rPr b="0" lang="fr-FR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fr-FR" sz="2000" spc="-1" strike="noStrike">
                  <a:solidFill>
                    <a:srgbClr val="000000"/>
                  </a:solidFill>
                  <a:latin typeface="Tahoma"/>
                </a:rPr>
                <a:t> +had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948360" y="5308560"/>
              <a:ext cx="122400" cy="2318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998880" y="4287960"/>
            <a:ext cx="4498920" cy="15602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284640"/>
            <a:ext cx="52275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éjection des événements charmés: 93.8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50622" b="0"/>
          <a:stretch/>
        </p:blipFill>
        <p:spPr>
          <a:xfrm>
            <a:off x="304920" y="2844720"/>
            <a:ext cx="3273480" cy="2239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66" name=""/>
          <p:cNvSpPr/>
          <p:nvPr/>
        </p:nvSpPr>
        <p:spPr>
          <a:xfrm rot="16200000">
            <a:off x="240840" y="3149640"/>
            <a:ext cx="464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</a:rPr>
              <a:t>d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17080" y="3716280"/>
            <a:ext cx="607680" cy="233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935920" y="3940200"/>
            <a:ext cx="0" cy="1973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364080" y="5913360"/>
            <a:ext cx="2571480" cy="120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608440" y="5867280"/>
            <a:ext cx="755640" cy="176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06760" y="4749840"/>
            <a:ext cx="554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ahoma"/>
              </a:rPr>
              <a:t>bri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4826160"/>
            <a:ext cx="22860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4000" y="6264360"/>
            <a:ext cx="25923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ptimisation of the SPL-Fréjus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74840" y="3789360"/>
            <a:ext cx="3809880" cy="237816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06200" y="1341360"/>
            <a:ext cx="5545440" cy="2120400"/>
            <a:chOff x="106200" y="1341360"/>
            <a:chExt cx="5545440" cy="212040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06200" y="1341360"/>
              <a:ext cx="5347440" cy="201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64400" y="3061800"/>
              <a:ext cx="83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4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1160" y="3062880"/>
              <a:ext cx="9792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10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68160" y="3061800"/>
              <a:ext cx="83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2360" y="1771560"/>
              <a:ext cx="989280" cy="11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660560" y="1555920"/>
              <a:ext cx="0" cy="123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04320" y="2066040"/>
              <a:ext cx="83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80c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8760" y="1842840"/>
              <a:ext cx="8438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ff"/>
                  </a:solidFill>
                  <a:latin typeface="Comic Sans MS"/>
                </a:rPr>
                <a:t>HOR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23800" y="2517840"/>
              <a:ext cx="1406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REFLECT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500720" y="3303720"/>
            <a:ext cx="4411440" cy="3294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096160" y="1558800"/>
            <a:ext cx="377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L: 2.2GeV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3.5G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cay tunnel: L = 40m, R = 2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L-Fréjus 130km + UNO-li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5400" y="5589720"/>
            <a:ext cx="164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~ 350M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2960" y="2973240"/>
            <a:ext cx="33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.Cazes + JEC (submitted to EPJ 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35:09Z</dcterms:created>
  <dc:creator>J.E Campagne</dc:creator>
  <dc:description/>
  <dc:language>en-US</dc:language>
  <cp:lastModifiedBy>J.E Campagne</cp:lastModifiedBy>
  <dcterms:modified xsi:type="dcterms:W3CDTF">2005-03-17T08:57:36Z</dcterms:modified>
  <cp:revision>53</cp:revision>
  <dc:subject/>
  <dc:title>Activités OPERA et CNGS</dc:title>
</cp:coreProperties>
</file>